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E022-4A69-4770-96E7-9C5F8715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342-25CF-4CAB-AF67-155F2ED8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911-9B57-4C2F-A948-657732D5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CB9-D018-4DE7-B790-0DD5569F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3AB-C46B-41DC-BE04-0B02F59D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E6D-4B40-4C05-BDCE-19FBA77B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538-9C6E-448B-A234-13D3D925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762-13BB-429B-899C-821DCF82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BF9-C6D1-46CF-B561-C7256242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66D-F3E0-4E80-B74F-2B00FF58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054-F144-4AA0-A869-7D566C2C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ED5-1010-4CB0-A78F-8F561872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A7DD-2A1C-45BA-BD79-16EC23588620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315200" cy="190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21520" y="4495680"/>
            <a:ext cx="1028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10:51:17Z</dcterms:created>
  <dc:creator>atk</dc:creator>
  <dc:description/>
  <dc:language>en-US</dc:language>
  <cp:lastModifiedBy>Kurssi</cp:lastModifiedBy>
  <dcterms:modified xsi:type="dcterms:W3CDTF">2003-02-17T11:21:26Z</dcterms:modified>
  <cp:revision>6</cp:revision>
  <dc:subject/>
  <dc:title>Vauhdin hurmaa</dc:title>
</cp:coreProperties>
</file>